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96D-187A-44E7-BF3D-76EF328F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6D1-1A0B-4266-A75A-E85A0517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72C01-CD27-43A4-9C99-8D19A8E6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AC397-69E0-4F9D-AFE5-73553CDE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70AB7-BA3D-4EAD-8EE7-2F1CBEE7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C3D55-CA24-4437-85F0-7376033F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3A0B5-FF3A-49EB-8F58-8F079A1A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3BF70-0700-46D6-BF41-8E62503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F0110-234F-4BD8-8975-E1CF3FE9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8AAA0-0F9E-4158-953A-3DAC88DA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A1D07-7EF9-48BC-A3D4-597BE025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03F07-9C42-496E-A95D-7CAB0954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F35-2A51-4376-A34C-3616AB97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E5BD6-9B0D-4455-907C-4F657010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1C09E-CF42-4936-9A50-C011182C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84659-C5C9-41A6-A9C6-58E23C93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E1E81-86E0-418B-A52C-D894D59C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268B7-7EEF-457A-B460-A549A097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46AFA-AB8F-4591-8993-C5FAC3CD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BAC13-3BB9-4B37-BA88-2C577F27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8919B-3A04-4E56-8006-DEEA3FF8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49854-B87B-438F-A8C6-12642D15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40302-9900-4613-BAEE-A4DD7B3D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AE9-6135-40B8-BC94-F2501989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F0E72-5672-429F-9C97-628C656A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64455-96A9-465C-941D-B06DD6CF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8610F-A6BB-4778-A1BE-3930BE23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3581F-9AA1-4133-B542-1BEE253D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26665-60E3-4057-80FA-D235137D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5400B-7E74-4CCD-8ACE-A2DB3F31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07101-9390-4847-B0E5-22D45835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E1BAA-DFB7-4954-88F1-115793CB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7CD9B-0787-4C22-8FE8-19F49B08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D5ADE-CD7D-4A1F-A8D3-ACACC808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F2C3-2BF1-43D9-A3D4-11054922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F5F1E-4DB7-46E2-8541-3CD8FD13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8FE56-EE6C-47CB-B124-C3D32D56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55E1E-33E5-46CD-95DE-CDF8C7FD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6D8CA-A20D-4FB2-8452-658BEDD7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4E211-B616-4A50-8CD2-843CC5A7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0BB05-32B9-44DF-9A7D-19DEFE4D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FCF96-B7D4-438C-8488-DF2B05F8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D43C7-8765-4B57-A44F-53810054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E7831-09AB-48E7-B170-174493D5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52B73-4732-45BD-8837-1D8B605A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A8BA-D5BD-499D-ACBD-04F030AE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E15F9-5215-4A1B-9BEB-4C128281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7DD2E-693D-429F-8FFC-FD94DBA8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7A1B1-6A68-490D-87A9-953D73F5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4BDDB-D5F4-439A-8E4F-A397E055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AB10B-6EDC-4EA3-AFEE-2E00A837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181B6-63A9-4F77-9E13-7333838F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B45FE-0873-4E44-A1F9-E235F094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0BA79-6290-4C59-A1AD-880E30D8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A9D1D-3B53-41E6-9A0E-7900ED8C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15DAD-50FB-4391-83A4-EE550096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AC45-C865-446F-AB3D-7D32A023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FE42A-7FEE-4E43-B588-9A2598B3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3C5A0-8666-4BE3-84AE-B1F40CDA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12BFD-87EA-4F72-AB83-5C8C3B9C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BB310-5633-4A4A-8B56-C511377E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10A87-7EF5-47E2-86AF-ADEBEA4E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1F36A-F629-4E5F-BC8C-E40600C4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62839-903C-4302-AD29-12B695BF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5E7BA1-84D5-4CA3-A272-3946D2BC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99D96-EE34-4AA9-9050-698A98D1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2BCC9-EEAC-425C-B933-2687859F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FCB7-1D8A-4B28-B7FA-34C5FAE1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6D9D5-E042-4F6F-8239-4399E8E2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98003-D9E9-4916-A62B-1B6E231B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39756-4203-4002-97F4-3133834F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0B6A1-FB2C-4F3C-B22C-7899C148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D29C1-2F3A-4990-B99B-2DBB5D95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D63C8-A101-4DAE-AD69-260E73A1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C5942-AE18-4A9C-9689-178AD427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F68BB-846E-467D-A828-A9B6F1A5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2FA1A-CB6F-455F-86B2-82645706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88D335-F8F0-47E3-BBBB-17B8A2A8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A241-1E69-4BA7-9B8B-AA986B21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5B453-78C9-43F5-A376-F753C76C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A0465-5F8C-42B6-B866-19CE9F9C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13E4F-7D21-4982-9311-DDE93DBD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BF795-CD59-4135-A150-5228294C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833F2C-5536-40E7-8882-443C2BAB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FBC6A-AF9F-4E53-A3AA-D76C9472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20D538-063F-4158-B8AA-88D9BC9F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85F5E-9AF8-4F07-BA00-A95CE898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8A4F9-0C03-4ACD-9CC2-CB26C560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78CBA-C0D6-472A-99D5-2DA72D4C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81AB-F5F1-497F-9CC2-4F8FBEF5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0ED04-C8FA-4F60-B961-B8F2A6D5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637E8-3852-4064-8B65-D0D92C5C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22697-2365-4421-B420-142B32EF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3CFBA-C77B-4D8C-AAEC-FA4EFC7E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70E81-937D-4122-A75A-3B9B0C85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76B15-2178-4D45-ABDE-AFA01034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E2AC06-4003-42AF-98D2-A4AEAD02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F0E4A-3923-48DF-807C-FC4803CF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16D78-A290-4B16-90B4-0E902353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9214C-779E-49A6-884C-6802EE5C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C994-5803-47B9-9526-E3E69747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A3060-0EFC-4421-A7AE-1651641C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0D0B5D-74FD-4EF4-901C-DDEBACFA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5FD187-7FDA-4404-BBC6-7E09372B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2DD1EF-2549-46A8-87BF-582EDCB7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07DA9-FEB8-4783-BEFB-CA952200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723CDD-693E-4DBA-BF88-AD605B4D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95CBEB-06E4-4207-B330-3BC09417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3FAE6-A2CF-49F7-9222-A8734D95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CB0973-715E-4B51-81F0-8ABF0BF0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318B50-7F98-4381-A0C6-DEA5D749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BC4-940A-4F0B-BEB7-76A0B613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3DE1-2505-494D-9952-D39E22F2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8BC19-4BF9-4FDA-833D-486DD6AA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CCAB32-73F1-4962-9B6E-CCB01B38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AAC5E-C5D3-401C-B1F0-FED21CA9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C6193C-C87D-44B6-810B-4176EA09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68036-929E-4978-BF44-D8CAC530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8F74C1-5854-403B-9FB6-D4810710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36CD58-25E5-4351-8D16-A207E416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1D2377-C410-458E-BC70-06E48BFE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B89E40-285E-4EED-AFCB-3763CDF7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F4AE71-F635-4F39-BD8E-99993091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9FD5-1FFF-4DBA-9A03-BDCE1CF7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2A4B1-F65A-4FA0-95B0-39167E19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559FF2-F13D-4B31-BB04-94E209D0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C0528-C349-4782-ABD7-65C05873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5DFEC4-33D4-4EA8-84D2-975658CE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3C3307-6964-44AA-A43B-E97547FC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57D42C-ACCC-422C-9C9E-244D68A7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CB64A-748E-497B-B65A-78513423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176860-9A61-4406-B138-8CFC81C2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3B328-C014-4FE3-96A9-23B1380C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DEC351-6E0D-4E46-BC4C-40D6A9CA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243D-ACC1-46A6-A72B-E236A3B2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CA4C34-BAC9-45FB-837E-AD0AD355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E9DAF0-D7C6-4C26-A017-67B59C32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902C44-5F0F-4B41-9A00-3F2F249A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3AC029-EAA6-46DC-8A1F-1F7668FE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01AEFC-1113-4867-9E39-76DC4E16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7B169C-DD76-43D0-8E02-A0FE34FA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E05B22-2B56-46E8-885E-70658BC9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8133C-2CD1-479A-A1E0-7DD10D6C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A64360-78B9-4792-962D-7815243F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9FBC0-2DF8-410D-B316-8B102111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C79C-1ADA-49B9-9944-534F4C83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09469-43FD-467B-8A23-290EDC72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171B90-989B-476A-BD17-AF318EF5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E55790-8A97-427F-881C-2677C967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38F2B7-4374-4427-A597-C6144236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225567-EE68-4AA3-8ECB-0B173454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81DEA7-54FD-4350-A989-B15BA7B9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D0458E-3DA1-4649-970F-82549760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102957-8F9D-4E1F-B730-962F11AC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D5A73E-386C-4252-938C-D723963E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53BE7-93BE-44A8-85A9-E169BA03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6A20-178F-40B5-B6EA-CC7F31C1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689474-8FCD-46A3-A0C7-91339562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2E60CD-3614-464B-B15B-769B0E8E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1F8DED-F20B-416A-93EE-3233EDA2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0701DE-531D-4CF8-9BED-6868E82C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AFD307-ACEA-4B8C-BE38-D607D47E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83C09-6F54-4727-96AD-7DD880D9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B82BE6-EC80-4DC0-85CA-F5903438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57B6C0-6B41-44BB-863C-C4811AC8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9C65A5-4323-40AC-8124-A66F5C8E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B2AAF7-45CF-449D-AD90-BD66EF99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125B-9277-46B1-AF4C-E34DF0E9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698413-6FFE-4685-859B-590D020F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125464-52A5-44AA-B4FE-A5E8CBF8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4C66D-2756-495D-9540-A69471F1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F864-0B30-4550-8345-18DB52E4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9412-E4BD-4D8F-AEA0-81899032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C7CAC-6AA2-4957-98DC-55D10AC4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F381C-95E6-4778-9E20-4B2A50F7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5AC-E6E7-44C8-AB7A-B730DEDA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0678F-42EF-4E53-8D9C-A6AD7F42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1ECC-D157-46AB-AA45-3D9E1EB7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B9A0-A56B-4A66-90D7-8C176C71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3DC9-CB75-42C0-9280-5AC33D03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233A-AEBF-4251-85A3-9096591A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9B7D-3D62-4346-987D-D3B5DD42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09CB-B063-4EC6-B6E6-D578E8BD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C7DFE-43DC-4DC2-AAB7-7639FFC7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26CA8-CFA4-40F8-BC62-E3FEACF6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18E6-ECFC-490F-8F65-4783C95F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C0C-0441-478D-850E-4BF90260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F1E2A-2BF6-4699-93F8-C7B7625B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0FBC4-1733-4D48-947C-EF037BC0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CED6-57B8-43E1-B366-9F497486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3A819-E1FA-4F9D-98C4-8A100E58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59853-4934-468B-92B6-D41DB957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2FB0E-B84F-4934-8F6A-BF030C0F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76F0C-587B-459D-A3C0-ABDA46E6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AC524-01BF-4CCE-B093-A1C8D872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6BC3-0B89-4A40-8587-A7C8FCD7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E5EA9-3FB6-4DEB-86C9-0E96B77B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B57-B859-49ED-8AEF-F9A07FDF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F5F87-1FE1-4328-A50F-06878074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7DE6E-CC1B-4FB6-8386-1594EB8B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4A571-509F-4E06-89F9-0021958B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7E936-32E2-425B-B6FD-9336AC01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2E7E7-4AD8-4F01-A709-DA026A80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8B7A0-5D9B-4136-BA8F-25631709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D01D9-0642-4F0F-A74A-4A866074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04C89-96E2-4C9F-8CF4-4071269A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0FB9E-4A03-4BA4-A9C2-17B747CF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B9027-CCB9-4B8E-B3C8-B2DFEB82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C2B-E892-4465-8B5D-47BBFC4F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BD9A7-4C93-4A12-A119-02EF6977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5166D-8464-44AC-A9D8-24F1F646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5EF4F-9653-4F49-8F22-2C02B2E4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CDFA7-BC25-4CFE-BD47-53BCD28C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A8A58-C9E1-4465-ABF2-2DD61950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C69C2-0E96-4313-BA3A-BBDF8FEA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13902-88F6-454F-BA2D-6D434C51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63152-61D7-43EE-9166-9E45E827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6ECDE-E354-4DB4-ABB2-BF7C96A9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3243F-179B-4426-962F-C27C8AE7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9CF-D128-49A2-BA39-DAF5C38D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97C6F-7969-493A-A897-56D19E1F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B1CCB-06ED-4B9B-A286-CB726DD2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D3844-0D02-44CD-BCD6-71B69496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142BC-3190-4D40-86D8-0F7DD869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1FD00-C018-42F2-94A3-ADB48321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29AF6-D4D0-4FB3-8FB8-06F6A901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7F1BE-5C76-4862-BDA9-26EE6AF9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0568F-6591-4EF1-8AB4-DA94746B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3D3ED-BA1F-4178-915E-1E92E0B0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BDFD6-CC75-4A9D-8D63-9BA40534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540-FFA3-41F2-8573-BD246FCA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3B02A-1B88-4A5C-9C70-7F013A28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9F068-AE5B-472B-8C7E-ECB3AA39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65124-AD07-4A68-891C-16556F44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8482C-81F6-423E-8A78-2996FE82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2ED9-F452-4C09-91FE-60821B75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4414D-D98A-4883-89CE-37E2A3C0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9FB05-9FD3-4A89-8063-2DBB87B7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9AC97-EB38-48A1-ADAB-2F2CF0BD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FE95F-FEFE-46C4-ACD7-8D36913F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10BAE-36A8-4DDA-8875-A181FC4E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7F4-32AE-40E8-8928-01FC8714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4C8B-03FD-4EAD-8303-19EE2A01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8CDEC-E11E-4928-9045-8B5803FD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2283F-8454-4D9C-991D-9960A019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A740E-42B9-463A-BC57-1B7C1F73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29555-F873-47A1-AA53-FD7E9987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AF3A0-0A89-43D7-90E1-49B55AEC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31E71-9163-420E-9CEF-8826D3EB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FB4A3-C276-454A-8C62-79EB9512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77D2B-3555-447E-B2C6-57675606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015FF-37F0-4ADD-B778-879D8265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BB82-17F7-443C-B7BA-33993C1121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E3AE-EF5E-44DF-91A7-AE862C6258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C043-D9E3-48D8-8428-4710DC812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F3B6-9EDE-410A-934F-FE09CA89CB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9E3F-40CC-4FC2-B726-076AA75B08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946B-6E40-4B8F-A4CE-71BF512E84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AC3E-81D1-4D38-86A5-A729A39B1D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9873-3095-4490-8C2F-9DF5674456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41BF-1AFB-46CD-BC73-E9EA859AA9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4345-6C79-4BD2-847D-FB1A5CAE52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BD3B-245C-4750-809A-C0F7B902BE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4449-B288-4769-B826-0F2D93FDA5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41B6-F936-415B-A291-5610A5BCC1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C043-BF05-4A84-84C5-B3F882625F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2CA8-7B68-45F9-866A-1C1E84C3CF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058E-59F7-48A1-A6A4-9877E5B094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44BA-78A6-4DC5-A546-A8F48287C5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3F34-EE64-4DDE-882F-AE8D776192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FE0F-ED54-4D98-A0FA-F8F33DD1B8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827F-5AF1-4E61-A74D-18DEB93B66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8378-6968-49D1-9902-1D64202686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80B4-9EBF-4CCE-AC09-9518CCAB63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8699-CC29-4206-83F0-7BF3B6E342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861F-693A-4F1E-A1FF-F7FD413D8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2724-4DD3-4D4A-80B2-919210F8EA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5192-2886-4A88-9935-E37431A068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444F-1813-4C02-98A5-6257BEE5DF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A078-8E37-4383-82B9-C38507F890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5B39-6C7F-4124-9DA7-1A8DE1C377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0732-7D1B-4E77-91F6-38E726ED45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AECA-AA0C-46DE-9B28-24AB3D9F72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1BDE-9CEE-41B2-89F5-7AF305632A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9D65-9522-4002-AEB1-5146D59EEE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30AA-A541-453C-B7A2-012D48E0E6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D874-7217-457A-865C-85F97372DE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7881-D73D-4529-8BFC-88AA7CEC67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5B5F-077E-4EF2-B926-9F08F7A87F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A41F-035F-41BD-B3CB-2D7B6E802B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DB16-6F26-4645-A26F-F1381636C0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06DD-9DF1-4DC1-9C64-32592C34EC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19240" y="3033720"/>
            <a:ext cx="51055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85840" y="971640"/>
            <a:ext cx="8572320" cy="49147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948360" y="3357720"/>
            <a:ext cx="115272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276720" y="4164120"/>
            <a:ext cx="7905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050920" y="5329080"/>
            <a:ext cx="1225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71680" y="816120"/>
            <a:ext cx="8001000" cy="5781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5508720" y="836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1908000" y="13842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3635280" y="170028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6084720" y="3068640"/>
            <a:ext cx="129564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3419640" y="3659040"/>
            <a:ext cx="129528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8028000" y="36590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9"/>
          <a:stretch/>
        </p:blipFill>
        <p:spPr>
          <a:xfrm>
            <a:off x="1187280" y="4249800"/>
            <a:ext cx="115272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0"/>
          <a:stretch/>
        </p:blipFill>
        <p:spPr>
          <a:xfrm>
            <a:off x="1692360" y="544500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1"/>
          <a:stretch/>
        </p:blipFill>
        <p:spPr>
          <a:xfrm>
            <a:off x="3635280" y="5445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2"/>
          <a:stretch/>
        </p:blipFill>
        <p:spPr>
          <a:xfrm>
            <a:off x="1835280" y="610704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262080" y="770040"/>
            <a:ext cx="8619840" cy="5972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227640" y="2708280"/>
            <a:ext cx="216072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084720" y="3860640"/>
            <a:ext cx="216072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6227640" y="5084640"/>
            <a:ext cx="216072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6084720" y="6278400"/>
            <a:ext cx="216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7352" descr=""/>
          <p:cNvPicPr/>
          <p:nvPr/>
        </p:nvPicPr>
        <p:blipFill>
          <a:blip r:embed="rId1"/>
          <a:stretch/>
        </p:blipFill>
        <p:spPr>
          <a:xfrm>
            <a:off x="376200" y="603360"/>
            <a:ext cx="8391600" cy="62103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55640" y="1960560"/>
            <a:ext cx="367200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684360" y="2565360"/>
            <a:ext cx="367164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5076720" y="1930320"/>
            <a:ext cx="367200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5076720" y="2506680"/>
            <a:ext cx="367200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826920" y="4811760"/>
            <a:ext cx="3672000" cy="9223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826920" y="5921280"/>
            <a:ext cx="3672000" cy="922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8"/>
          <a:stretch/>
        </p:blipFill>
        <p:spPr>
          <a:xfrm>
            <a:off x="5003640" y="5027760"/>
            <a:ext cx="367200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9"/>
          <a:stretch/>
        </p:blipFill>
        <p:spPr>
          <a:xfrm>
            <a:off x="5443560" y="5719680"/>
            <a:ext cx="367200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6324" descr=""/>
          <p:cNvPicPr/>
          <p:nvPr/>
        </p:nvPicPr>
        <p:blipFill>
          <a:blip r:embed="rId1"/>
          <a:stretch/>
        </p:blipFill>
        <p:spPr>
          <a:xfrm>
            <a:off x="314280" y="1128600"/>
            <a:ext cx="8515440" cy="46008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826920" y="3127320"/>
            <a:ext cx="5761080" cy="949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5761080" cy="9493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826920" y="5200560"/>
            <a:ext cx="70581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309600" y="195120"/>
            <a:ext cx="8524800" cy="64677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900000" y="327024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539640" y="501336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468360" y="5618160"/>
            <a:ext cx="867564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324000" y="6194520"/>
            <a:ext cx="7993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4276" descr=""/>
          <p:cNvPicPr/>
          <p:nvPr/>
        </p:nvPicPr>
        <p:blipFill>
          <a:blip r:embed="rId1"/>
          <a:stretch/>
        </p:blipFill>
        <p:spPr>
          <a:xfrm>
            <a:off x="290520" y="1066680"/>
            <a:ext cx="8562960" cy="4724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6408720" cy="863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900000" y="465300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84360" y="5300640"/>
            <a:ext cx="640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52231" descr=""/>
          <p:cNvPicPr/>
          <p:nvPr/>
        </p:nvPicPr>
        <p:blipFill>
          <a:blip r:embed="rId1"/>
          <a:stretch/>
        </p:blipFill>
        <p:spPr>
          <a:xfrm>
            <a:off x="262080" y="690480"/>
            <a:ext cx="8619840" cy="54770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4427640" y="257976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21:0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